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0B6-8ECD-4259-82D4-B64BAA5A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3DD-733D-443B-9B03-A5136CDC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1F5-5DDE-4EEF-8654-D2252252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582-BD7A-4D35-92ED-D55F2CA7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F46E-4296-42BD-82F9-1DD9A44E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92E4-7D19-4666-9FB2-A3C7C9F9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3028-4849-4FE5-A62E-5D794905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0723-74AD-4738-A5DA-8F55D2F5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EBA9-652C-4D40-AAFA-D2D4F11F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B1D8-0FA7-4606-A859-0337C8F4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B86F-9D51-4076-8489-083D770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94A-00C9-4313-BAAF-306E871D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60DA-C1BA-4734-B036-46AB00C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FBFA-8822-4278-96CA-37B726D7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0D9C-CEF5-45F8-955D-441B321B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AE73-EE7C-41F5-8534-DBFBDCE0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80A9-2CC4-4964-833D-739859C6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933C-E827-4CA9-A6D0-B4E37625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6D901-B0B9-439B-825F-4BA4A257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39AC-35E5-479C-AABF-204F3C2F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2ACF-4797-4A03-BB48-E975681A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78B7-A2BA-4D20-B1C4-AA1ECEA2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3F0-E159-439D-9292-BB7481DD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25F9-4482-47FB-9AF2-2ACD8229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22CF-ECBE-498A-869A-7AB4FCE6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81AD-BDA1-4A80-A61B-0D54E6AF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97E3-ED8D-4B10-9D26-9DDEFB4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88274-527E-4BC2-AFF5-4C27472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F8B2-C6BC-47D4-9D41-72CD393E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EA02-9F4E-4096-8730-46C20297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6399-0F20-4C82-A182-6BE4C615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E5F0-BE83-4340-AA7E-87772565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B3FA-294D-4215-B749-F4EC980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EC0-F0C1-4718-A99B-D63CD285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42E8-DFA3-4460-9C12-412F314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F73D-7D2E-46CD-92E0-68D98817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3A247-662F-4354-A567-8720B114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BFE7-CA86-4016-99C7-25CCCFC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3BDD-745A-4505-8B92-C23431EA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8A09-7A06-4536-AF83-AE56F66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72EE-3C67-4840-9FAD-B3C11463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B9099-7E3F-4F7D-A0E9-C67EB7FE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8CE2F-5434-408E-BAA9-C563A107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1C1-9123-4FEA-982D-0C02E404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B24-EDB7-4DC7-B5DC-CBFCE238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273-EBFF-405C-B02C-EE4D354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1A6-C5C5-4752-8B50-66FAD09D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07C-3D68-4128-8235-CE0DC93E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88F55-375E-4A34-A115-7FF7CEE8D29F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DA395-5193-422C-A586-711D9E07BF9E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2845D-B2BD-4763-91F4-2758E8A710AF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44" t="0" r="0" b="0"/>
          <a:stretch/>
        </p:blipFill>
        <p:spPr>
          <a:xfrm>
            <a:off x="0" y="2670120"/>
            <a:ext cx="403560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C5E95-C787-4E38-BDA3-BE091B0820F5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ebebeb"/>
                </a:solidFill>
                <a:latin typeface="Century Gothic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900" spc="-1" strike="noStrike">
                <a:solidFill>
                  <a:srgbClr val="ebebeb"/>
                </a:solidFill>
                <a:latin typeface="Century Gothic"/>
              </a:rPr>
              <a:t>2) 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PRECIZAREA NIVELURILOR DIN CECRL LA INTRAREA ELEVILOR ÎN CICLUL DE ÎNVĂȚĂMÂNT GIMNAZIAL, PRECUM ȘI A NIVELURILOR AȘTEPTATE </a:t>
            </a:r>
            <a:r>
              <a:rPr b="0" lang="ro-RO" sz="2900" spc="-1" strike="noStrike">
                <a:solidFill>
                  <a:srgbClr val="ebebeb"/>
                </a:solidFill>
                <a:latin typeface="Century Gothic"/>
              </a:rPr>
              <a:t>LA FINALUL CICLULUI GIMNAZIAL (a)</a:t>
            </a:r>
            <a:br>
              <a:rPr sz="2900"/>
            </a:br>
            <a:br>
              <a:rPr sz="2900"/>
            </a:br>
            <a:r>
              <a:rPr b="0" lang="ro-RO" sz="2900" spc="-1" strike="noStrike">
                <a:solidFill>
                  <a:srgbClr val="ebebeb"/>
                </a:solidFill>
                <a:latin typeface="Century Gothic"/>
              </a:rPr>
              <a:t>- limbile engleză,franceză, spaniolă, italiană - 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11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11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1166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ebebeb"/>
                </a:solidFill>
                <a:latin typeface="Century Gothic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400"/>
            </a:b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- limbile germană, rusă -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3)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 DETALIEREA FIEC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Ă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REI 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COMPETENȚ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E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 GENE</a:t>
            </a:r>
            <a:r>
              <a:rPr b="0" lang="en-US" sz="2800" spc="-1" strike="noStrike">
                <a:solidFill>
                  <a:srgbClr val="ebebeb"/>
                </a:solidFill>
                <a:latin typeface="Century Gothic"/>
              </a:rPr>
              <a:t>RALE</a:t>
            </a:r>
            <a:r>
              <a:rPr b="0" lang="ro-RO" sz="2800" spc="-1" strike="noStrike">
                <a:solidFill>
                  <a:srgbClr val="ebebeb"/>
                </a:solidFill>
                <a:latin typeface="Century Gothic"/>
              </a:rPr>
              <a:t> ÎN COMPETENȚE SPECIFICE, ULTIMA COMPETENȚĂ SPECIFICĂ FIIND DE NATURĂ SOCIO-CULTURALĂ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1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ffffff"/>
                </a:solidFill>
                <a:latin typeface="Century Gothic"/>
              </a:rPr>
              <a:t>9) INDICAREA RESURSELOR ON LINE UTILE PARCURGERII PROGRAME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anuela Delia</cp:lastModifiedBy>
  <dcterms:modified xsi:type="dcterms:W3CDTF">2018-08-29T06:56:24Z</dcterms:modified>
  <cp:revision>23</cp:revision>
  <dc:subject/>
  <dc:title>Elemente de noutate ale programei școlare pentru disciplina</dc:title>
</cp:coreProperties>
</file>